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7523-CA86-4A26-AF57-C5387D2E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6703-E273-4E36-BAF1-E7C46482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E2C-B938-44CC-9FDA-D6385E9B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F35-66F8-43F7-A57B-FFDF1097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1772-D64E-4E0C-BF9F-7909E52C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14EA-8AFA-4C01-B0DD-F641F36D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7848-C37A-465B-B875-95BADD1B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3D18-3837-4BF5-8A61-8F203766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7521-E7D4-4B9F-AC67-DA86EF95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1626-541A-47F6-B6A4-A2FCFAF9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05E4-2D55-4862-B420-CBD39CB1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F99-E9D5-4767-9410-468E0EA2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AE4D-A3B8-490E-BBBD-B7A5AFD8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6FE9-4D5C-48CD-90D4-5896E53C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DEE8-9F1F-41CD-BBDA-7D72188F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257C-BED0-4067-93C6-65434586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BA77-00EE-4269-A4EB-F50DDD68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10D-C996-4FF8-9E72-2DDD82C0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53D-C657-46BE-AD8D-8C29C735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C29-25BD-4980-9B98-1C260D2E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C09C-571C-4491-A8EA-B718FEFB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DE7-FD1A-4D98-9770-90390EEA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E0F-B20F-40D2-A8DA-BF4E86EE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EA18-B3BD-4DF0-AF2B-D787EBCC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2919-60F1-4C28-8CBE-9948DCC80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F328-0477-4256-8FF8-AE8FD73E2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272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272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onal Option - Pap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 S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matic OR Chronological approach - not just 10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questions per topic - no stipulation that they have to answer from different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LL bul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b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than Paper 2 mark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than old paper 3 mark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nch Revolution and Napoleon - Mid 18th Century to 18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fication and consolidation of Germany and It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toman Empire from early 19th to Early 20th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stern &amp; northern Europe 1848-19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erial Russia, revolutions, emergence of Soviet State 1853-19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pean Diplomacy and the First World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and Change in the Middle East 1914-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war years: conflict and cooperation 1919-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viet State and Eastern Europe 1924-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World War and Post-war Western Europe 1939-2000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-war developments in the Middle East 1945-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and Economic developments in Europe and the Middle east in the 19th or 20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 questions – 2 from each of the 12 sections in the History Gu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 that name specific people, plac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will be taken from the bulleted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can use material on any country in the region to answer open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choose any 3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2:05:46Z</dcterms:created>
  <dc:creator>David Smith User</dc:creator>
  <dc:description/>
  <dc:language>en-US</dc:language>
  <cp:lastModifiedBy>David Smith User</cp:lastModifiedBy>
  <dcterms:modified xsi:type="dcterms:W3CDTF">2008-07-05T19:12:31Z</dcterms:modified>
  <cp:revision>10</cp:revision>
  <dc:subject/>
  <dc:title>External Assessment</dc:title>
</cp:coreProperties>
</file>